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9AD-0375-4EF0-BE36-4F375513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0D3-E4E4-4A99-BD43-47FE0CA5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C25DB-D8D0-491B-AC52-9E5E70C1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BE50E-4F2E-44B0-8BFF-E10E2DFE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8B14F-710B-4C5E-9E12-D51E1C83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05001-D5B1-4AA3-BE50-CFFAC4CC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D3D66-13DE-45C1-806F-74F87090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76117-A693-4BAB-B1E8-C13B8420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31267-E9DC-4703-B640-51E09E64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3DB92-357E-4129-933A-E645AF2C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C7068-0060-407B-8514-1FA71FDD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B9BA1-A5AB-429C-8C43-F3CF60C1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2EC-2707-4C0F-ABF0-2B4556FA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52BD5-A1C0-4445-8733-51E121B9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DD08D-12F7-4818-8C08-C8CF6564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7C32C-AE12-4C3F-9E7D-04C14AC1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206C9-5C21-432D-B4D4-F62BA64E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A79F5-7066-4806-A0C0-0C0051A9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B9610-F6EB-4AD2-8990-C2EA0D18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28C59-E5AA-4982-BB69-6DF6B7BF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2C4EB-D66F-4EA7-995A-77F2594A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50DCF-012F-4891-86AD-CF33E1C1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0C357-6154-4199-AB92-7B999741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044-492F-4A73-B6A0-337E93D0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9E171-0429-471D-A65F-3B624801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C151B-AD91-4FDB-801A-77C10730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FB111-25E7-4B29-923F-35938764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DEE32-C1A3-438F-A155-A307DE48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F1D40-E1E3-439D-8C7A-8F91D8F4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6C869-5E5D-4F58-B47A-0D5E9A69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7016A-9ADB-4B12-BC80-37957F2C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19C27-C241-46B3-A675-32AA486F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3EB3A-30B7-4D21-B3C7-E295A488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17644-E51F-40BA-8DC1-9CD7FD37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5D6D-99FA-417D-8EFB-C27C2318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5E3AC-DCE4-463C-A642-29D29C8C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C9A5F-CF26-4F78-957E-CB67AB4C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3E772-2539-4C4C-B634-8190B342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D1D02-9A7B-47D4-8D77-16AE1FAD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012AF-500C-497A-A314-C7D38ECA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302EF-395E-4E52-A52A-E704A4B3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5CC2D-5B45-4C5C-A4DC-7D7E6A9B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79713-95CC-47C0-A941-E1FB813A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9504F-4CC6-49B1-BDF5-CF19719C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FFA77-2A88-4C31-BE12-3BF15598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49DC-545E-40AF-90CC-24EC2875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4054F-4F60-4FA0-AD1A-4F8EB759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9306F-907A-47AE-BE89-95BF1D48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DBB1B-4547-4F67-8020-20DF9EA6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905F4-8E88-4BF0-B23C-CA6789E8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8EEF4-7721-4A33-A37A-F4EB9489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73CFB-5465-4ECA-9185-A57E88FE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CEAE8-E082-42F0-8218-715F6FF7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0E402-E42C-4732-953A-6E92CC75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F8F83-5673-4DED-805D-D6DB3CA4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58EA0-EC26-4487-863A-BF17B9EF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1A3C-4FAF-4370-AED5-A4F41B0B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A40B8-1A71-42CC-B46D-EBEC31F1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45402-0527-4EDB-852A-50E024CC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46B68-9541-43EE-939E-C7A00C5C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7F29C-3F0D-41C1-83F6-21BAB704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B7DC0-2FF2-48A1-BE48-9061D0D3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CDC9B-783A-47A8-8739-4D56E8FA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B2721-2005-4B54-8B0D-9233D264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CE3B75-71A2-4DC0-AE3E-0293BE74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FF284-DD94-40A1-AA38-80DF8BD8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C4CC38-D99C-49F8-8EDA-9A03650D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8650-BE84-4EB9-97C3-47A93945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91601-7868-4124-9E76-5D393617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768A96-245F-4D8B-848A-C9187609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87E1F-FC7F-447D-AE5B-E2370D66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4F1AE-8406-47DD-9270-6C550007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F4B24-D6B5-47B8-922D-B02E7B7A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61B92-C867-4585-BE38-00C54D99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06566C-AF67-4F66-A8FD-EF2BD4D8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DC42C-4617-4A0F-942B-3184733B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229F8-F401-4128-9B5E-CB869BD3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0BFA5-1FCA-4661-AF5F-866FB449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1F7D-2C58-4888-AA2A-C94B2B88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AC4FEE-2875-43AC-BDA7-74E5B02E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15957C-3CD6-441F-A196-AB6FE259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28765-906A-4DD9-B3F2-8F553224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FF59E7-D276-4BAF-A499-064D101C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EC77C-9481-4511-854C-869BD2FE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3FDFF7-3DA4-4EE6-B0A3-5FF81EAC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AEA3C5-F547-4E72-A1B3-A10CB554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A450D-3603-4705-B3BA-5C5E8C2A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9820A-2ADB-4FB1-A90E-E05E11B1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85077-53D5-40E4-9D7B-766E38F7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1AC4-204C-4ED0-B7D9-0A2F2891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505F40-739A-4EBE-8622-FF8FEE1D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2BFF55-EAB5-4FDA-ABBD-2BBBB9D4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A1536C-E01E-42E7-A866-E841158F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849288-6D8E-4CBE-B967-256C546D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5FFB3-6E5A-48D8-A7CA-1F31A859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CF7F70-EC6D-43FE-A5C5-6D12775D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48389F-122C-4F87-935F-8649CAB9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CFE93-4008-47F6-B56E-750C5A33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65588-5910-4552-B29D-1635643C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33757B-86B0-46F7-93A9-F30512CB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7F03-E0A8-4297-BB21-716025B6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5359E-193A-4AB5-9BCD-B0F5E814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B34DB9-2545-4672-AB75-23D78123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3F553C-7636-4A77-B6C6-90505806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D6BDF-ED40-438B-A88B-AE7B671D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1E2CD-D381-4D82-BD4B-2932A4CB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3AF26F-0D88-404D-AB19-74D6DFF9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F1B16-901F-438A-AA30-17692007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650D4-9F61-4D2B-B1DA-D601072C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85E86-79D4-4538-8FEB-D63EC57B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F14781-02B3-4878-8DB5-19BFB6B1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9BF-B4AB-436F-ABAD-3991CB7D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BC66-2D01-4E83-A2A2-16C4B4B8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033E07-5A56-4825-BA65-E7FAAEC5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CAF486-041E-4083-9CA9-7C956B2B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41202-A27A-4DFB-90F3-5690131B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3EF686-03BE-457D-AFBA-3448CE0F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51D0C2-DFBD-4D77-963E-0AE2D303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E9D09D-AC64-44CD-9311-C0F85CE7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68C63D-250D-4AE8-8A10-3D8EE187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366C5-AB58-45D0-B683-ABF9FE2F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C42B9A-92E8-4B95-885F-57808B39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855DD5-68B0-454A-9A09-D677EC54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36C1-F2D8-469E-B52D-B9BFB954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96AC6-CD55-4292-BF48-171DFF45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6BE2A0-0478-4831-86AE-0A99C963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03F78F-674C-4D46-9AD4-73C612FA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E9F0D9-339F-4616-9862-5123C7B9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F03F2-B4BB-47A5-8FA5-13FA7241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0A66E4-A72A-408E-9BAF-57DC5DB6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A98DFB-72C6-40F8-831F-4F986652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D8760E-E9E1-47E5-9BCD-58DBB0C2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32C9A3-AD5C-4366-97D2-62F572E6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8EDA14-C482-459F-9480-36E40908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0B72-899F-478C-A1E2-17CDE575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A813E5-CE81-40B4-91AA-5B4AD472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8298C9-D139-4299-AEED-BE7FD97F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05512D-DCDB-49FF-87C6-F001F7C3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8E6E2A-B0E6-4878-A0C6-42D9DAAA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6095F5-5DFB-48DC-AD1F-40C2DDD7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2AA361-DFE1-46C3-9F8C-A93C8D6C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9EA829-CDEF-42DA-BBF8-69D46568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7E39C4-9314-4867-B662-3361CE6A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996226-8294-47C1-85BD-AFF34B20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9E2827-4C30-469E-A0C0-FEE2998C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CF01-D135-4AB7-A690-145BCA86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9A38F6-9F30-4978-8C51-63D672AB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AAD3EA-0B18-4BEC-B123-18D95665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DC0F18-378F-4961-9F7F-DB5C4652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38141E-423B-4BE1-ADAB-BD85E397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817BDE-5170-47EC-9257-FFA9CF71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A3BF65-8EBC-477B-92BA-3279625A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DA80F0-89D9-435A-84DA-66607A59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2F7E67-DE61-4391-9ACA-DAD10689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51670E-18BF-4D75-B82F-D7F5F97C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279A0B-F6A5-4202-9434-402C1E47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645D-1FE9-4F24-9F75-E35C97BF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6CB176-ADED-47E1-A401-E72DC3EE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E4354C-67B8-4C6B-B950-0755B1FC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0C58A3-9841-4BBD-9023-83BDF14B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C380F6-D77D-41AD-941D-B8D1B7B4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3FA8F8-B565-45F2-8373-6E9C4643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3EA990-3FC3-4398-BED1-88064FE6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D43E39-82D9-45E0-AE67-73831FDC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B6473E-FAF9-4986-BA23-8DD09A98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64B7C-D5D0-452B-91CE-540CEE0B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8E9EEE-9131-4762-AD8F-83861F96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4A608-4EA9-4CCD-9231-7B532C45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EAB06F-5C41-4B09-A33A-7AA346E0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2B92EC-915A-47D3-A6EA-1F1CBDC7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9369DB-9A1C-4A70-87F8-D4F23268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66D93-4FDB-44E7-83F6-287DCDF4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6ED83-99B4-4AF1-8091-557E886D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5758F-A9BB-4907-AAD7-0AA3FD96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DB1FC-274C-4D1E-BFDA-B5981ACA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A9B-D95B-48A2-90C2-2C7E33AB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B205B-7790-4C17-97F4-C3C13D53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F0BF-DE7E-4761-AB92-F4B1401B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C08EF-4A07-4856-B9FC-C86259E8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C208-20AB-4CD3-9CBB-528A6516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882E1-537A-4F93-AAB9-19D9244A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5FBC-DD1E-4993-AFDC-A2811039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5E17-3A1E-4C34-B469-D727130A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55533-46FF-44AA-82CA-9EB4C762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BCF0A-DB25-40E1-A7C6-F98BB7DD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F3523-1D55-47A6-9BE6-EE4AF8A8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C8F-9954-4E4E-97E7-E41620A9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4FF90-27BC-4E54-B1F3-B76F774F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267EF-42ED-4201-90B5-9241FC99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9E3F4-2852-4F49-BBF8-85466C6C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1A7A3-5307-4FE0-AC40-970D6667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9ACCD-CC38-4E1F-B6BA-85269C5C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4A476-3B67-4CE7-9F67-AC556270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96E75-D0C7-4739-A14E-FF80EC64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F3EB5-7351-4D1F-9B23-ADEB91D9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22528-3AC2-4ACE-A83D-090444A5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3DF8A-57A9-44D2-86C0-DCAE4828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6241-0930-4C7E-A157-6413ED0D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945D1-323D-40CB-BF6F-92F4B641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EB4A3-4EBB-44F2-8919-FFBBA818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EF176-2750-4704-9C15-FB8358A0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DF8B7-BEF9-44CF-9070-0A8358E8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0F4EE-5514-407C-A689-F8A3865E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C7E41-13D3-41C9-B10B-E6AB15EF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45081-DFAA-4B7E-8FE7-CDCB3CB9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E57FE-92F7-4D00-BF0E-75334FF1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E1F4E-9C9E-4C55-9F7B-3FA516BB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5A6EE-2C91-4C01-A989-8D948A49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D53-B7EC-4A2B-911D-156542AA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439F2-C5BD-4099-BE9C-554227CC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7FAA7-FEDF-4EE2-A38A-865EC885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4661F-269D-488B-B06E-B560F8FD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2B9A1-ADFE-4CA8-B2AC-707E9AA8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D5254-20CD-4FBC-B80F-EAF6CDF6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6DD9C-F702-4752-BD86-30BB07E4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474FA-4297-48BD-AC2F-458862B1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9B72B-7D24-4FDF-A620-135E29C4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176F8-976E-4B5F-9C0C-05E6D770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4D8CF-8BEB-41DD-8CDF-7DFF73AB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5F2-04FD-4347-941F-ABA08FA6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DA1C2-F4DD-43D9-AAF6-6C0B4590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5180D-E61F-4E4E-B8BB-7204458E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CD00C-AFA2-4368-B523-9FB9758B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E9E27-9DCE-4C61-A219-19DBA6E9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13888-198A-4CB2-928E-65B069C5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B1788-8317-4952-9CA9-04A6FD2F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AC68C-80B8-4B09-9BFB-83E8A628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CF9E1-907E-4712-AD8E-79F1E1AC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CA71C-2613-4F8F-9809-5D869EE7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09976-DE95-43B3-BB3F-4CE35C68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8D0-21AF-4487-B718-00EBCCC2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FC3E8-5D44-40B7-A8F0-96BCABAB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FC04C-0852-4DC3-BC7B-163F37CA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C097E-C110-4943-B253-B726211C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F2CFF-FDCC-4F18-857B-33BDE556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D0906-6491-4440-A7F3-0F5D112A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54CB4-B803-415A-BAB4-DD026179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1256F-383B-4042-BEA3-5ECE3C12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E6FBC-16DC-4AC3-8BAC-929F2068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28B95-B8B5-48FA-BBDB-87091B60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E2132-FDC1-422D-BC04-825F3D0F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3A5-D86D-44C7-9FE6-3E0B6157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B6E14-C7A7-495A-B11F-C83DB864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3EB61-C5F0-4AEF-8012-1F19A3C7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A8011-899E-4FBF-823A-2F936740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1B0D8-94C2-42DF-852D-25EF3789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876C1-7182-4115-9100-87C58407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F9DCC-972F-4396-8800-0AB878FA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D5665-3312-4ABC-82CE-EFF7FC61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9545B-E6EC-48DF-B833-03088380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1910C-3951-49D1-82C2-2D22E32C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73FF8-BBE1-483A-BC14-A62EBC8F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4742-BC44-49DF-9B4E-F47ED0C713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C3A6-B806-4B3D-925E-BC884CF8F3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4359-73E0-4296-B440-C2BEC550D3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785B-8635-495D-8627-72D64C6CF7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DC62-CC31-444B-9876-14B543B022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BA27-1790-4493-AC3B-EB4A65EF58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99B3-B370-4113-8A63-67B66A30D2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F26A-0DBD-48F2-8AFA-AED7BCC84A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4683-4CBF-4D4A-A7F7-3294F38E6B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A01C-2EBC-437C-8B00-6DD98402CC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42C4-06E1-4682-A3D8-179AF35903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58FB-F4F5-42E6-822D-AE42952904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9DC2-7A99-4DCE-BEEB-96F85DF652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7F0E-56C0-42FA-87C9-4AFABE4EBE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6D19-E3B1-42B4-9145-CB233FAFC7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4ACB-FF47-4831-BAA4-885CEC3A18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5801-A052-4618-8871-D9B26EA79C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5A8E-8305-431A-B4C5-081FB46B96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DDE8-A859-4EE5-8F58-F76C9575FA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56E9-9A8F-4C7A-BCD8-57326B3DB7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D1D0-8A33-44DE-BA9B-DD921565A2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5F2E-8CF3-4F6D-A285-EB995F9087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9DC8-94E2-4CCB-A088-04ADA53072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0760-CDA1-4796-B342-B6335CBD5F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C556-808B-4253-B813-DB5A4457EF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5635-35C2-40E5-BB94-56046EB5BB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F017-EE81-4A11-B1C9-DA513940AA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7472-96E0-4043-A05B-D8D61D2FA3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9753-4FE8-4FB0-9F7E-4F1FD993DC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70DF-9D57-469F-8F62-C270FF7E74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576D-DBFE-46C7-AADC-0B2F7517A9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AFC2-E1E4-4B9C-BE22-DBA107B66B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592E-D410-4550-9E80-ECB67AFADC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7253-FD39-448E-A099-6AB9B0CF3F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BB3B-D810-4B4B-A732-8B35E0F826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614E-3432-4B78-B419-74A46E9D62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F893-865A-4ADA-89F5-50E1DC3F4C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252E-2B87-44A2-BC39-C4CA5CE0B1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182B-9ACC-4C1B-AA1E-5DDE996068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0185-EA8A-4524-993A-D2CDE44CF2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19360" y="3129120"/>
            <a:ext cx="390528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3840" y="1576440"/>
            <a:ext cx="8896320" cy="37051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514520" y="270180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392200" y="268920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130640" y="2655720"/>
            <a:ext cx="216000" cy="268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003640" y="2646360"/>
            <a:ext cx="216000" cy="2682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732720" y="2655720"/>
            <a:ext cx="215640" cy="268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605720" y="2655720"/>
            <a:ext cx="216000" cy="268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519200" y="3087720"/>
            <a:ext cx="216000" cy="2682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2392200" y="3087720"/>
            <a:ext cx="216000" cy="2682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4130640" y="3078000"/>
            <a:ext cx="216000" cy="268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5003640" y="3078000"/>
            <a:ext cx="216000" cy="268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6732720" y="3078000"/>
            <a:ext cx="215640" cy="268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7605720" y="3078000"/>
            <a:ext cx="216000" cy="268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468360" y="4124160"/>
            <a:ext cx="208764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395280" y="4427640"/>
            <a:ext cx="208764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395280" y="4714920"/>
            <a:ext cx="208764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324000" y="5022720"/>
            <a:ext cx="3960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9410" descr=""/>
          <p:cNvPicPr/>
          <p:nvPr/>
        </p:nvPicPr>
        <p:blipFill>
          <a:blip r:embed="rId1"/>
          <a:stretch/>
        </p:blipFill>
        <p:spPr>
          <a:xfrm>
            <a:off x="380880" y="1995480"/>
            <a:ext cx="8382240" cy="286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36560" y="3683160"/>
            <a:ext cx="311472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684360" y="4005360"/>
            <a:ext cx="311436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611280" y="4302000"/>
            <a:ext cx="311472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611280" y="4591080"/>
            <a:ext cx="4176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8373" descr=""/>
          <p:cNvPicPr/>
          <p:nvPr/>
        </p:nvPicPr>
        <p:blipFill>
          <a:blip r:embed="rId1"/>
          <a:stretch/>
        </p:blipFill>
        <p:spPr>
          <a:xfrm>
            <a:off x="109440" y="776160"/>
            <a:ext cx="8925120" cy="53056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755640" y="2079720"/>
            <a:ext cx="316872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684360" y="2411280"/>
            <a:ext cx="316836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684360" y="2698920"/>
            <a:ext cx="316836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898560" y="3549600"/>
            <a:ext cx="3168720" cy="2574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826920" y="3881520"/>
            <a:ext cx="316872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826920" y="4168800"/>
            <a:ext cx="316872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5075280" y="3540240"/>
            <a:ext cx="374472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5003640" y="3871800"/>
            <a:ext cx="3745080" cy="2574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0"/>
          <a:stretch/>
        </p:blipFill>
        <p:spPr>
          <a:xfrm>
            <a:off x="250920" y="5454720"/>
            <a:ext cx="316872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1"/>
          <a:stretch/>
        </p:blipFill>
        <p:spPr>
          <a:xfrm>
            <a:off x="324000" y="5753160"/>
            <a:ext cx="3168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1:42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